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BB9-F128-47CA-BBDC-CE3D583B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1C6-04F1-4BD0-BBAE-2C2ACF0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F28-410B-4C2F-8757-DE6ED4B9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A88-5A0E-4080-B42D-EF4F9153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380B-F375-488D-988E-41BF06C3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6229-FCD7-487D-8F6F-29A1ADE5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E90F-6F16-4E2E-9EFB-C6084C6A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000A-C795-42A9-931B-2975C5AC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61D-1A7F-4A5F-940B-6BFA41A5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466F-2B31-4A3B-B6B7-727A84D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A884-8CB4-41E3-9114-83376F46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91C-1280-4CF9-8734-EE0AE3A8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629F-7ED6-4DDF-8566-CBB17687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5394-52B2-4CE9-A035-7A7C671C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CE21-A60E-4182-BE66-A861C676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CFF9-E305-4A40-8976-2EE8C4D5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65D5-F637-436A-8D45-A1E1F877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295AC-C2C5-409B-8195-A2744DB62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6B130-E656-48C5-B6B2-B3201D14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E937B-47B2-4A29-92AE-626C49C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CBA62-A1A8-48B2-B148-A25457E8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92ED0-1BA2-42AB-8D51-33D34518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F29-4251-4320-9B5F-6075CDDE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CBD04-6D66-46C9-B020-5CC8A93D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57D32-3026-4699-A9AC-FA480419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50A6F-4BF3-49D9-9C4C-E553336E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3BBF5-1B25-43A2-82EB-8B2BC58C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5F7E4-DB0E-4BF5-A79C-D42DD62E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A7789-A269-47A4-8C1E-0106B57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13011-5C8D-4C7B-96CC-0F2A005B7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A08-611D-4275-8178-F6A749EE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1C6-625F-4BB2-803F-6E5B48C4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C0E-9CDF-40DE-A5DA-26AED93F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8C9-2223-451B-BA04-10EDBAA0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26B-E787-442B-96B4-E6BD8CE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61F-E584-4CAB-81B2-32E91B74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C553-74CA-4EFF-A83F-DF43B20987D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3319-AFB0-4B1D-9426-9563C494A279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E307-14D6-460E-B35C-9F1B964D006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a ricerca online della normativ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4932-2668-4FE8-A0F3-3909CA98C4C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ahoma"/>
              </a:rPr>
              <a:t>La ricerca on line</a:t>
            </a:r>
            <a:br>
              <a:rPr sz="4400"/>
            </a:br>
            <a:r>
              <a:rPr b="0" lang="it-IT" sz="4400" spc="-1" strike="noStrike">
                <a:solidFill>
                  <a:srgbClr val="3333cc"/>
                </a:solidFill>
                <a:latin typeface="Tahoma"/>
              </a:rPr>
              <a:t>della normativ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 sito della Presidenza del Consiglio e dell’Istituto Poligrafico dello st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ww.normattiva.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’ una banca che dati offre a tutti i cittadini, </a:t>
            </a:r>
            <a:r>
              <a:rPr b="0" lang="it-IT" sz="2200" spc="-1" strike="noStrike">
                <a:solidFill>
                  <a:srgbClr val="ff0000"/>
                </a:solidFill>
                <a:latin typeface="Verdana"/>
              </a:rPr>
              <a:t>gratuitament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, la possibilità di consultare gli atti normativi con la modalità della </a:t>
            </a:r>
            <a:r>
              <a:rPr b="0" lang="it-IT" sz="2200" spc="-1" strike="noStrike">
                <a:solidFill>
                  <a:srgbClr val="ff0000"/>
                </a:solidFill>
                <a:latin typeface="Verdana"/>
              </a:rPr>
              <a:t>“multivigenza”,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e cioè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el loro testo </a:t>
            </a:r>
            <a:r>
              <a:rPr b="0" lang="it-IT" sz="2200" spc="-1" strike="noStrike">
                <a:solidFill>
                  <a:srgbClr val="ff0000"/>
                </a:solidFill>
                <a:latin typeface="Verdana"/>
              </a:rPr>
              <a:t>originari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el testo </a:t>
            </a:r>
            <a:r>
              <a:rPr b="0" lang="it-IT" sz="2200" spc="-1" strike="noStrike">
                <a:solidFill>
                  <a:srgbClr val="ff0000"/>
                </a:solidFill>
                <a:latin typeface="Verdana"/>
              </a:rPr>
              <a:t>vigente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l momento della consultazio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el testo </a:t>
            </a:r>
            <a:r>
              <a:rPr b="0" lang="it-IT" sz="2200" spc="-1" strike="noStrike">
                <a:solidFill>
                  <a:srgbClr val="ff0000"/>
                </a:solidFill>
                <a:latin typeface="Verdana"/>
              </a:rPr>
              <a:t>vigente ad una data pregress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d oggi, la consultazione in multivigenza è consentita solo sugli atti pubblicati dal 1970. A breve sarà estesa a quelli pubblicati dal 2 giugno 1946 a oggi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E0D8-E043-4757-9BBD-E700E9C809F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ahoma"/>
              </a:rPr>
              <a:t>La ricerca on line</a:t>
            </a:r>
            <a:br>
              <a:rPr sz="4400"/>
            </a:br>
            <a:r>
              <a:rPr b="0" lang="it-IT" sz="4400" spc="-1" strike="noStrike">
                <a:solidFill>
                  <a:srgbClr val="3333cc"/>
                </a:solidFill>
                <a:latin typeface="Tahoma"/>
              </a:rPr>
              <a:t>della normativ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 sito della Presidenza del Consiglio e dell’Istituto Poligrafico dello st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ww.normattiva.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ella modalità di ricerca avanzata è possibile una combinazione molto sofisticata di parametri per reperire gli atti normativi (ricerche nella denominazione, nel titolo, nel testo, nel periodo di pubblicazion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I provvedimenti trovati vengono restituiti secondo </a:t>
            </a:r>
            <a:r>
              <a:rPr b="0" lang="it-IT" sz="2200" spc="-1" strike="noStrike">
                <a:solidFill>
                  <a:srgbClr val="ff0000"/>
                </a:solidFill>
                <a:latin typeface="Verdana"/>
              </a:rPr>
              <a:t>l’ordine della gerarchia delle fonti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, quindi, </a:t>
            </a:r>
            <a:r>
              <a:rPr b="0" lang="it-IT" sz="2200" spc="-1" strike="noStrike">
                <a:solidFill>
                  <a:srgbClr val="ff0000"/>
                </a:solidFill>
                <a:latin typeface="Verdana"/>
              </a:rPr>
              <a:t>dal più recente al più antico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CE48-639E-4C35-9381-698128053ED0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La ricerca on line</a:t>
            </a:r>
            <a:br>
              <a:rPr sz="3600"/>
            </a:b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delle sentenze dei Tar </a:t>
            </a:r>
            <a:br>
              <a:rPr sz="3600"/>
            </a:br>
            <a:r>
              <a:rPr b="0" lang="it-IT" sz="3600" spc="-1" strike="noStrike">
                <a:solidFill>
                  <a:srgbClr val="3333cc"/>
                </a:solidFill>
                <a:latin typeface="Tahoma"/>
              </a:rPr>
              <a:t>e del Consiglio di Stato</a:t>
            </a:r>
            <a:r>
              <a:rPr b="0" lang="it-IT" sz="4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sito “La giustizia amministrativ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www.giustizia-amministrativa.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’ possibile cercare </a:t>
            </a:r>
            <a:r>
              <a:rPr b="0" lang="it-IT" sz="2600" spc="-1" strike="noStrike">
                <a:solidFill>
                  <a:srgbClr val="ff0000"/>
                </a:solidFill>
                <a:latin typeface="Verdana"/>
              </a:rPr>
              <a:t>se si conoscono gli estremi dell’atto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iste anche un </a:t>
            </a:r>
            <a:r>
              <a:rPr b="0" lang="it-IT" sz="2600" spc="-1" strike="noStrike">
                <a:solidFill>
                  <a:srgbClr val="ff0000"/>
                </a:solidFill>
                <a:latin typeface="Verdana"/>
              </a:rPr>
              <a:t>motore di ricerc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ancora in versione sperimenta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61D1-D421-4BC1-A1A8-C1EBA79DD86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ahoma"/>
              </a:rPr>
              <a:t>La ricerca on line</a:t>
            </a:r>
            <a:br>
              <a:rPr sz="4400"/>
            </a:br>
            <a:r>
              <a:rPr b="0" lang="it-IT" sz="4400" spc="-1" strike="noStrike">
                <a:solidFill>
                  <a:srgbClr val="3333cc"/>
                </a:solidFill>
                <a:latin typeface="Tahoma"/>
              </a:rPr>
              <a:t>della giurisprudenz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 servizi offerti sono tutti a pagamento, alcuni a basso costo (p.es. www.altalex.co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Naturalmente, c’è sempre la possibilità di utilizzare Google (www.google.i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er tutti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ossibilità di iscriversi gratuitamente al sito indire.it all’area di formazione per dirigenti “fordirigenti” dove possono essere reperite numerose sentenze commen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F07C-6DC4-4963-96EE-AEB9F92D8921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09A9-5E31-4B4B-9FD6-2404B868BE1D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Tahoma"/>
              </a:rPr>
              <a:t>La consulenza on line</a:t>
            </a:r>
            <a:br>
              <a:rPr sz="4400"/>
            </a:br>
            <a:r>
              <a:rPr b="0" lang="it-IT" sz="4400" spc="-1" strike="noStrike">
                <a:solidFill>
                  <a:srgbClr val="3333cc"/>
                </a:solidFill>
                <a:latin typeface="Tahoma"/>
              </a:rPr>
              <a:t>per i pareri e lo studio di cas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portale di Italiascuola.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www.italiascuola.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E’ un sito di consulenza per le scuole, a cui si accede sottoscrivendo un abbon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2:37:40Z</dcterms:created>
  <dc:creator>petrolino</dc:creator>
  <dc:description/>
  <dc:language>en-US</dc:language>
  <cp:lastModifiedBy>antonio</cp:lastModifiedBy>
  <dcterms:modified xsi:type="dcterms:W3CDTF">2012-09-21T07:32:51Z</dcterms:modified>
  <cp:revision>229</cp:revision>
  <dc:subject/>
  <dc:title>Il profilo professionale del dirigente della scuola</dc:title>
</cp:coreProperties>
</file>